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CB1-6E3D-491B-A7B4-F5B2A57F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744-CADF-4EB8-8316-7E20EA91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DCE-F7B4-4775-A1A7-1585B13A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0EB-F41D-42AC-AFC9-CC880528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D67-18E3-4248-81E2-3DC8819B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AEC-4EB5-45C8-B35E-38A2EBD4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9C6-E260-4F63-B17C-5D6232CE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D75-59A9-4521-9F87-E80BB2D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DA4-D1F5-47E7-BE3F-8D05D388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143-1382-4CF1-82E6-D9897AF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5F7-E56A-468F-89BB-3EF2229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381-389F-47DF-B3D5-6D56A64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0000-5709-49FB-9144-9CE587F0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S_1.1_StarterA.ppt/" TargetMode="External"/><Relationship Id="rId2" Type="http://schemas.openxmlformats.org/officeDocument/2006/relationships/hyperlink" Target="http://AS_1.1_StarterA.ppt/" TargetMode="External"/><Relationship Id="rId3" Type="http://schemas.openxmlformats.org/officeDocument/2006/relationships/hyperlink" Target="http://AS_1.1_StarterA.ppt/" TargetMode="External"/><Relationship Id="rId4" Type="http://schemas.openxmlformats.org/officeDocument/2006/relationships/hyperlink" Target="http://AS_1.1_StarterA.ppt/" TargetMode="Externa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S 1.1 Starters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Focusing on ‘Achieve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04480" y="2491920"/>
            <a:ext cx="2962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ter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rter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arter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arter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3780000" y="5950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94280" y="2492280"/>
            <a:ext cx="2962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24000" y="535680"/>
            <a:ext cx="4321080" cy="6303960"/>
            <a:chOff x="2124000" y="535680"/>
            <a:chExt cx="4321080" cy="6303960"/>
          </a:xfrm>
        </p:grpSpPr>
        <p:sp>
          <p:nvSpPr>
            <p:cNvPr id="144" name=""/>
            <p:cNvSpPr/>
            <p:nvPr/>
          </p:nvSpPr>
          <p:spPr>
            <a:xfrm>
              <a:off x="2124000" y="535680"/>
              <a:ext cx="4321080" cy="630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f  a = 4,  b = 5  &amp;  c = -3  fin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b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2a + 5c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Simplify (6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÷ 4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6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  (e – 3)(e + 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&amp; 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w – 15 + 3(2w +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  (p – 2)(p – 6)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12g +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(e + 2)(e + 9)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627280" y="3357720"/>
                  <a:ext cx="15130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1700280"/>
                  <a:ext cx="4777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62120" y="3378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11g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5680"/>
            <a:ext cx="432108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If  a = 4,  b = 5  &amp;  c = -3 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b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2a + 5c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Simplify (6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÷ 4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6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3)(e +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&amp;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w – 15 + 3(2w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Expand   (p – 2)(p – 6)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+ 12g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(e + 2)(e + 9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280" y="1268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61405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e = -2 or e = 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2680" y="56833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(g + 10)(g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11560" y="520524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p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– 8p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06560" y="477216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8w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7400" y="383688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+ 7e –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30480" y="294804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9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19680" y="24685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2 x 4 + 5 x -3 = 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492360" y="1728720"/>
                <a:ext cx="1247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627280" y="3357720"/>
                <a:ext cx="1513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00360" y="1700280"/>
                <a:ext cx="477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47640" y="195120"/>
            <a:ext cx="5545440" cy="6298560"/>
            <a:chOff x="1547640" y="195120"/>
            <a:chExt cx="5545440" cy="6298560"/>
          </a:xfrm>
        </p:grpSpPr>
        <p:sp>
          <p:nvSpPr>
            <p:cNvPr id="167" name=""/>
            <p:cNvSpPr/>
            <p:nvPr/>
          </p:nvSpPr>
          <p:spPr>
            <a:xfrm>
              <a:off x="1547640" y="195120"/>
              <a:ext cx="55454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99"/>
                  </a:solidFill>
                  <a:latin typeface="Arial"/>
                </a:rPr>
                <a:t>Algebra AS 1.1 Starter 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62200" y="768600"/>
              <a:ext cx="5055840" cy="57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f  a = 4,  b = 5  &amp;  c = -3  find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3b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Factorise 4p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20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Simplify 5e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(3e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 Expand   (e + 5)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  (e – 9)(e + 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Factorise   g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9g + 8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  (p – 6)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g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2g –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e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e – 12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484360" y="1755720"/>
                  <a:ext cx="90180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2200" y="768600"/>
            <a:ext cx="505584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If  a = 4,  b = 5  &amp;  c = -3 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3b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Factorise 4p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20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Simplify 5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(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 Expand   (e + 5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9)(e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9g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Expand   (p – 6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2g –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Solve    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e – 1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64440" y="600552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e = -3 or e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7440" y="550224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(g + 2)(g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3880" y="494172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p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 – 12p +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17560" y="335772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e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 + 10e +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7480" y="44370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(g + 8)(g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38000" y="39178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e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 – 4e –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5280" y="285264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14e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5440" y="23893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4p(p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1916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3971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84360" y="1755720"/>
                <a:ext cx="901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62640" y="709920"/>
            <a:ext cx="458064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(b + 9)(b – 2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 4x + 3 = 2x +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Factorise 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Simplify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(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 Expand   (w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8)(e +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g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Solve   (p – 4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2g – 3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Factorise    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8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2640" y="709920"/>
            <a:ext cx="458064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(b + 9)(b – 2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 4x + 3 = 2x +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Factorise 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Simplify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(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 Expand   (w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8)(e +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g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Solve   (p – 4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2g – 3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Factorise    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8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8800" y="6093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 = -9 or e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4360" y="557388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g = -7 or g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360" y="501336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p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720" y="450864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(g + 6)(g +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18800" y="3500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+ 6w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88160" y="298116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3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2000" y="24051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8x(x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03920" y="18302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x =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132552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b = -9   &amp;   b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66800" y="400536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–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840240"/>
            <a:ext cx="46083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mpl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2)  5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3)  1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10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÷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6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4) 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(2e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5)   Expand   3e(e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6)   Expand   (e + 2)(e + 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7) 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+ 6g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8)   Expand   (p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9)   Solve  (g + 5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10)  Factorise    p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–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840240"/>
            <a:ext cx="46083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mpl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2)  5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3)  1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10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÷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6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4) 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(2e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5)   Expand   3e(e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6)   Expand   (e + 2)(e + 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7) 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+ 6g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8)   Expand   (p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9)   Solve  (g + 5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10)  Factorise    p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–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06080" y="1397160"/>
            <a:ext cx="9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m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05600" y="191628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10m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37720" y="247824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3x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38080" y="298116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12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3280" y="3500280"/>
            <a:ext cx="20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3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15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1920" y="3989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7e +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2200" y="449424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(g + 4)(g +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46800" y="5013360"/>
            <a:ext cx="22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p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6p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8000" y="550224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g = -5 or g =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3080" y="602136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(p + 9)(p –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95280" y="285228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ood Effor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2720" y="810000"/>
            <a:ext cx="4264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4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12m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24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÷ 6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3p + 12w – 4p – 14w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(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5(w +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Expand w(w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Expand 3p(p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5m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Solve 3(e + 5 ) =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554200" y="3141720"/>
                <a:ext cx="865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50920" y="831960"/>
            <a:ext cx="21589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6028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468360" y="5805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10228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2720" y="810000"/>
            <a:ext cx="4264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4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12m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24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÷ 6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3p + 12w – 4p – 14w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(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5(w +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Expand w(w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Expand 3p(p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5m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Solve 3(e + 5 ) =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54200" y="3141720"/>
                <a:ext cx="865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50920" y="831960"/>
            <a:ext cx="21589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26028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468360" y="5805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42800" y="90792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48m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9720" y="141300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4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8000" y="206064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-p – 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90440" y="2492280"/>
            <a:ext cx="916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g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0080" y="3068640"/>
            <a:ext cx="976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360" y="3573360"/>
            <a:ext cx="1762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5w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90440" y="4149720"/>
            <a:ext cx="1747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– 5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63160" y="479736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3p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– 1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5840" y="535788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m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5805360"/>
            <a:ext cx="118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10228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96920" y="691200"/>
            <a:ext cx="3480120" cy="5580360"/>
            <a:chOff x="1996920" y="691200"/>
            <a:chExt cx="3480120" cy="5580360"/>
          </a:xfrm>
        </p:grpSpPr>
        <p:sp>
          <p:nvSpPr>
            <p:cNvPr id="71" name=""/>
            <p:cNvSpPr/>
            <p:nvPr/>
          </p:nvSpPr>
          <p:spPr>
            <a:xfrm>
              <a:off x="1996920" y="691200"/>
              <a:ext cx="34801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implify (if possi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6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8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  64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1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÷ 16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(2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5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(4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2e(e + 5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w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w – 6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&amp; 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(p – 6) + 5(p +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m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+ 7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4e – 5 = 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340000" y="299736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96920" y="691200"/>
            <a:ext cx="348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Simplify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6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8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  64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÷ 16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(2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5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(4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2e(e +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w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w – 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Expand &amp;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(p – 6) + 5(p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m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+ 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4e – 5 =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40000" y="2997360"/>
                <a:ext cx="115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067280" y="858240"/>
            <a:ext cx="165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8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8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000" y="1557360"/>
            <a:ext cx="1214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g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60880" y="1989000"/>
            <a:ext cx="121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5160" y="2492280"/>
            <a:ext cx="1294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80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61360" y="2997360"/>
            <a:ext cx="1096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84280" y="3429000"/>
            <a:ext cx="1997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2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10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0280" y="39895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w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3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– 6w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7080" y="4797360"/>
            <a:ext cx="1604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7p +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20520" y="5229360"/>
            <a:ext cx="1959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m(m +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5661000"/>
            <a:ext cx="1477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e = 1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195120"/>
            <a:ext cx="5545440" cy="6292440"/>
            <a:chOff x="1547640" y="195120"/>
            <a:chExt cx="5545440" cy="6292440"/>
          </a:xfrm>
        </p:grpSpPr>
        <p:sp>
          <p:nvSpPr>
            <p:cNvPr id="91" name=""/>
            <p:cNvSpPr/>
            <p:nvPr/>
          </p:nvSpPr>
          <p:spPr>
            <a:xfrm>
              <a:off x="1547640" y="195120"/>
              <a:ext cx="55454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99"/>
                  </a:solidFill>
                  <a:latin typeface="Arial"/>
                </a:rPr>
                <a:t>Algebra AS 1.1 Starter 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2752560" y="1447920"/>
                  <a:ext cx="882720" cy="8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p>
                            <m:e>
                              <m:r>
                                <m:t xml:space="preserve">w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sSup>
                            <m:e>
                              <m:r>
                                <m:t xml:space="preserve">w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2627280" y="3214800"/>
                  <a:ext cx="151308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sSup>
                            <m:e>
                              <m:r>
                                <m:t xml:space="preserve">w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2268360" y="907200"/>
              <a:ext cx="47527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6w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2w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(4c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(8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÷ 2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5e(3e + 10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&amp; simplify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w(w – 3) + 5w(2w + 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Factorise   4m + 1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3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9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46 – 2e = 12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752560" y="1447920"/>
                <a:ext cx="8827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627280" y="3214800"/>
                <a:ext cx="151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268360" y="907200"/>
            <a:ext cx="48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6w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2w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(4c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(8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÷ 2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5e(3e + 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&amp; simplif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w(w – 3) + 5w(2w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Factorise   4m + 1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3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+ 9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46 – 2e = 12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80000" y="1484280"/>
                <a:ext cx="949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808880" y="981000"/>
            <a:ext cx="16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12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5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17080" y="23335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64c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2440" y="278136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32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05960" y="321300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10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9116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15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+ 50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11520" y="4581360"/>
            <a:ext cx="21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12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+ 9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71160" y="508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2(2m +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360" y="5396040"/>
            <a:ext cx="1922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3e(e +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15200" y="5827680"/>
            <a:ext cx="1181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47640" y="195120"/>
            <a:ext cx="5545440" cy="6200280"/>
            <a:chOff x="1547640" y="195120"/>
            <a:chExt cx="5545440" cy="6200280"/>
          </a:xfrm>
        </p:grpSpPr>
        <p:sp>
          <p:nvSpPr>
            <p:cNvPr id="115" name=""/>
            <p:cNvSpPr/>
            <p:nvPr/>
          </p:nvSpPr>
          <p:spPr>
            <a:xfrm>
              <a:off x="1547640" y="195120"/>
              <a:ext cx="55454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99"/>
                  </a:solidFill>
                  <a:latin typeface="Arial"/>
                </a:rPr>
                <a:t>Algebra AS 1.1 Starter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4440" y="815040"/>
              <a:ext cx="427104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5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 × 14h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(7ab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10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(3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2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 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4 – 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&amp; 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(w + 12) – 5(2w + 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  (m + 4)(m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9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21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(g + 4)(g – 5)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639880" y="1328760"/>
                  <a:ext cx="8748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9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556000" y="3141720"/>
                  <a:ext cx="9712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4440" y="815040"/>
            <a:ext cx="427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5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h × 14h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(7ab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10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(3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2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 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4 –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&amp;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(w + 12) – 5(2w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Expand   (m + 4)(m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9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– 21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(g + 4)(g – 5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39880" y="1328760"/>
                <a:ext cx="874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45080" y="5626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70g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h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6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33720" y="1268280"/>
                <a:ext cx="9986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56000" y="3141720"/>
                <a:ext cx="9712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370200" y="59245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g = -4 or g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02120" y="5492880"/>
            <a:ext cx="19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3e(3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6680" y="49878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m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+ 10m +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77480" y="45561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-8w +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90040" y="364500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4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– 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70120" y="3095640"/>
            <a:ext cx="96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3v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23880" y="2637000"/>
            <a:ext cx="1337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54g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0160" y="2158920"/>
            <a:ext cx="151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49a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b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50:41Z</dcterms:created>
  <dc:creator>Ministry of Education</dc:creator>
  <dc:description/>
  <dc:language>en-US</dc:language>
  <cp:lastModifiedBy>default_user</cp:lastModifiedBy>
  <dcterms:modified xsi:type="dcterms:W3CDTF">2006-04-07T01:49:59Z</dcterms:modified>
  <cp:revision>31</cp:revision>
  <dc:subject/>
  <dc:title>Slide 1</dc:title>
</cp:coreProperties>
</file>